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10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B6A618-F0C6-429F-BC22-E57DDB2A3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59E456-7E92-4C5E-A8DF-C03E9B660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37ED-DF6C-45CA-A5C1-56C8C0887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E694-7958-4889-94DB-DDF57C411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C84B-04B0-46CD-8CB3-9520316A9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1030-3257-469E-BC6E-4ABADF903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1F66-D23F-48EB-AFA7-1E3776589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6B7E2-80B8-4A54-94CD-69DE8C6A76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E0691-8063-4D42-8653-0D29E18C0D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EA05-F433-4918-87F4-080FD7827B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A392F-9025-4DDC-8C40-24A166067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2859-AB3A-4F8F-980F-C3F92ED11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B9A0-90F2-479D-9DD2-6235462D46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FEB4-3871-4B49-B4EC-C8D657DAAF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162EE-7295-4D15-8B1E-829792A0C6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67282-CFAB-40F6-9414-E1966FEF56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76295-EF95-4881-93EE-5317DC5916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73A6-1493-4724-A253-4767F264BF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68F37-11BE-4B49-A4BF-AAE86B064B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7A8E4-D39E-4A7F-A22F-46CD6BEE41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158A-BAA2-4ECE-B87A-DA891C5FA0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160B-A5A6-4A92-A07D-CE32F024DA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7069-00A9-47F9-BAEE-E8212C208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BF42-F4D8-4E68-9AFF-FD0FC12DDD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CF92-FEEB-4A4E-8D1E-43BAA9E891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1EF0-7E56-4CD8-A9C6-5E1DA36E43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7B2-6518-40B7-9B9E-678C9CBCF5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780-B314-4B8A-8DA6-4AF983E379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900D-DF98-403B-8897-FDD30CD893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B88-0BD3-4BA3-8D1D-0143459169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B37B-8AFB-4723-A300-72604B59DC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283-71E4-4809-81AB-2B2E356BC5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3181-BB70-41D5-99A5-57E9C87661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CE12-0FB4-4CC2-9DE6-996D567A5B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1CF4-C133-43D7-B1A1-30B426D8DD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06AC-2318-4446-89E0-B38F1D1DAB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B76C1-08E0-47EF-A65D-7F2F8DD5BC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3AD17-30F2-4331-AB66-25A8AB3242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0E90A-C2C9-4DA5-AB54-D3DA8CAB7C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CAA9E-A21E-468D-8AB1-C2ADD3E0B1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486CA-F933-4F56-A789-E3EC16FF70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4039C-7EF3-4131-854A-FDCF2EF4A6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193B8-B9A6-49A4-BD5F-75B6D1524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7B5D-74CF-4E39-BFC7-4E063EE2BF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C5B78-1086-4872-85E7-8F7F446E21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963D1-4F3D-4BCC-8E2E-79FCF78E07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FEAA7-C4AA-41DF-9128-47F469A8B0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20023-8CDF-4767-9FF6-C0609FC560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D45E8-30AA-420B-BDB2-7A1D9F62F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E146-69AD-4615-A650-EF882D9DA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8FE-FD85-4DA1-98FC-7DE86E8E5AA7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43080" indent="-343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43080" indent="-3430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43080" indent="-3430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46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35640" indent="-3564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35640" indent="-3564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35640" indent="-3564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474-1F9E-4660-BD05-B5A231DD0D6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827-934B-47D6-BA42-65E096426E17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213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35640" indent="-3564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35640" indent="-3564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35640" indent="-3564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Chapter 2 – The Balance Sheet l  00/00/00 |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Times New Roman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373-DE6F-4427-9F43-8580299C37FD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A7F-5349-45B6-B3D0-CB12AE28F356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hapter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Balance Shee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68520" y="2009520"/>
            <a:ext cx="815976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62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5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484D-750C-4411-AF76-0246CE87567F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Calculate total assets and total liabilities and own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equity. They should match. Include a ruled line above the totals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4" name="Picture 4" descr="Ch2BalanceSheet10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8F3-06AB-42A4-883D-55DC7F651492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Put two ruled lines below the two totals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8" name="Picture 4" descr="Ch2BalanceSheet11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CE9-1D63-4D8A-8C4F-81EEE7D57D4A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Add dollar signs to the first number in each column, the total assets, and the total liabilities and equity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52" name="Picture 4" descr="Ch2BalanceSheet12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6759-C3B9-42E7-B09F-C16E4CF35610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tutorial guides you through the basic steps of creating a balance sheet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more detailed instructions, refer to Section 2.2 of th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Accounting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xtbook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0413-460F-4CD6-9C67-F2731C1CE601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Write the heading: Who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16" name="Picture 4" descr="Ch2BalanceSheet2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1372-75E0-48D0-95F0-757E919154CE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Write the heading: Who, What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20" name="Picture 4" descr="Ch2BalanceSheet3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9F5D-DC0B-425E-9555-AA0D925D2A94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Write the heading: Who, What, When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24" name="Picture 4" descr="Ch2BalanceSheet4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8762-FBAC-4569-BABE-98E88CAEF59E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Under the Assets subheading, list all assets in order of liquidity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28" name="Picture 4" descr="Ch2BalanceSheet6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F44-D4BC-4C42-816E-75A2434618B9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Under the Liabilities subheading, list all liabilities in the order they are due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32" name="Picture 4" descr="Ch2BalanceSheet8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C55-CF93-4B84-B8E6-7F069111F6B0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Subheadings with more than one item must be totalled. Total the liabilities with a ruled line above the total. 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36" name="Picture 4" descr="Ch2BalanceSheet9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CA96-C649-4F41-9F4A-84318BED7D57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Under the Own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Equity subheading, record the Capital amount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0" name="Picture 5" descr="Ch2BalanceSheet7-2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23Z</dcterms:created>
  <dc:creator>rosimerr</dc:creator>
  <dc:description>Built by: www.mediasterling.com</dc:description>
  <dc:language>en-US</dc:language>
  <cp:lastModifiedBy>Les MacKay - STC</cp:lastModifiedBy>
  <dcterms:modified xsi:type="dcterms:W3CDTF">2015-02-06T19:42:56Z</dcterms:modified>
  <cp:revision>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4</vt:lpwstr>
  </property>
</Properties>
</file>